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7DC-9651-43E3-8405-54EC0815E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F4B6-469B-4A6F-9CD5-9969A613B0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962-3754-454B-81E4-81642370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113-E1B6-423D-B1B7-0235F6DC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6E6-8513-481B-99DB-46646C0F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7B6-6F03-4FE8-B376-99B3F27C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2E8-87CB-48E0-8B0C-7F65279A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39F-14D5-4279-A205-E50DE73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C36-D6D2-4E03-AF4C-1C81691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7C66-EE63-4424-9CDE-8F09BF0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9270-1230-4960-827B-3825E4BD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204-0C99-4F59-A92D-2D391F1B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3B3B-B3C3-407E-A23E-4E5BF753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17E-BA24-4674-9EA8-7DF1E19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895-C962-4819-A394-2D7BB92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5EDF-E921-445F-A398-7AF3156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79D-371B-4EA8-BD26-F1970E67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CF2C-F45D-44B6-88D8-A768F4A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1820-4794-4E1B-9036-A52088BF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209E-8C82-47C7-AD84-2FD8B7A8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238D-8F8D-406A-B6E6-A70ECEAA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CB86-4232-4E94-B7D3-A9E938EF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E466-F461-48B8-840D-1770030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0F84-F109-4796-AC04-3391B1F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2AB-E99E-4359-B104-6B225DC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3918-6B24-4AD0-AD22-068C29BC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CEF5-8E42-4F7D-BEF6-75F50AB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88D6-80B3-44AB-B44C-2D35560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C41C-50AC-4B1C-9368-7A23E3B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C8F1-887C-43A8-9880-6F76127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1B1C-71FC-4E89-BCD0-B8DE0180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76A2-19E9-4BC0-B79B-A8549DE8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0B87-FA65-4CEC-9A23-40C80612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DD53-2513-4E48-A8F8-7601C93B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2B5D-106D-4D5B-8E02-DEE1F936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5F6-9715-455B-B4D6-68AA3780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8A83-C6F2-46A7-A31C-C8248007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2EE2-26E9-40EA-9FFD-F04EF617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FF45-AD1F-4FA7-9BA7-F9D5B370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02E0-DBD5-4A14-B7FC-474D2DB8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B339-0F7E-4BCC-87AC-3188FBE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5B4E-6907-4762-ACAC-80371404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919E-B08B-4944-8FE8-B3EE52D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7294-9E54-40D3-A7E0-FC0DAA1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BCA4-01BA-4D7F-A18E-2AEC8DEF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9836-7B99-4649-9215-550F050D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EC5-39A4-4230-B704-43036421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87B6-8ECB-4CCD-B157-7D05420F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8738-F05B-40EE-A4CA-802E59D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1212-EEFB-4BE3-AF65-627F69F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D6F0-552D-46D8-BEEF-7CD51B6F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C616C-F258-433F-93DE-BF2B4F24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2E13-9652-4CDB-BD40-0E88030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919E-F418-498D-8FA3-A0F4E3E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286AA-758C-4800-909C-6AFDA85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54B5D-040B-440A-858D-0A56C03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9755-44CB-4258-AF1D-DDC9E9AB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41D-EDEC-4911-89CF-C3B6A90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D42B-ED70-48A7-A46A-66875141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3465-9E33-4E20-9FE9-8064D940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83FB-6D89-4721-B32C-FB58D64E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5028-E20C-4280-BC9D-B9750B5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F589E-CD6C-4183-8374-D1987BD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D89F8-793D-4C3A-87CE-EDF3A58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B7680-097F-4B41-9A73-40360F5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CC76-476F-4823-96B7-FA9DB75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A81B-E3C7-4E83-A449-835DF45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5C50-126C-471C-B903-12FA99E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231-58A5-4B87-8DBB-0F145157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6D9E4-4A99-4D51-8FB4-DC90A55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7003-1E22-478A-ACE2-113A1E73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5172-6228-4D14-82BC-9CEAD9F0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AF3A2-25E5-40B6-A1F7-CAF7AB49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0CA5-C1E1-4542-9CC7-7EA56E31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65B2-E814-4F49-A7B4-851E9A6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DE64-3800-4F9C-8822-1B3C13DE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36E5D-BF06-4D32-84A7-1793A87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2445-1BA5-4939-B5E8-A2F9BC17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E33FB-F473-46ED-ABC1-6459C80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3F4-0A79-4716-A6A1-284D515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E43C9-56F4-4FDA-AFB4-CDD5014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90ECF-C475-40BF-9346-38315AA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ED4B-23F0-4630-B892-D7F9EE7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1494-F45D-4844-A557-0767C194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8D60D-D694-4FCA-8EEB-1935AD7F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D94-CE44-47AC-A137-FD6041F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343-F01C-4B9C-8977-C890CC637B2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2561-32C8-4B1D-BF0F-AE34599B11C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B63-6A69-4C9D-B771-B6FD8BEDC32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5B9-F8F4-49FB-A0B1-283E677BD95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560-725D-471B-A21C-33255C80A88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1473-458B-47D2-B158-6B9F59FE9EE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7AD0-27D6-4A52-A3FD-EF059BDE727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Corbel"/>
              </a:rPr>
              <a:t>Static Electricity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2" descr="C:\Documents and Settings\mkingdon\Local Settings\Temporary Internet Files\Content.IE5\FE298CR5\MCj04314960000[1].png"/>
          <p:cNvPicPr/>
          <p:nvPr/>
        </p:nvPicPr>
        <p:blipFill>
          <a:blip r:embed="rId1"/>
          <a:stretch/>
        </p:blipFill>
        <p:spPr>
          <a:xfrm>
            <a:off x="3429000" y="25146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ubtitle 2"/>
          <p:cNvSpPr/>
          <p:nvPr/>
        </p:nvSpPr>
        <p:spPr>
          <a:xfrm>
            <a:off x="1447920" y="304920"/>
            <a:ext cx="647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1143000" y="1163520"/>
            <a:ext cx="7238880" cy="69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y do clothes often stick together after they come out of a drier? (this is called “static clin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ive a simple explanation for the cause of lightning.  Use vocabulary from the Static Electricity section in the text and use a drawing in your expla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y does your hair often stand on end after you take off a sweater or wool 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onus: why is there usually more static in the winter time (especially here in Beijing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447560" y="1218960"/>
            <a:ext cx="6476760" cy="990360"/>
          </a:xfrm>
          <a:prstGeom prst="rect">
            <a:avLst/>
          </a:prstGeom>
          <a:noFill/>
          <a:ln w="0">
            <a:noFill/>
          </a:ln>
        </p:spPr>
        <p:txBody>
          <a:bodyPr lIns="10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Electric Charg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1143000" y="22860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lectrons have a negative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tons have a positive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milar charges will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pelled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+ &amp; + or – &amp; –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pposite charges will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attra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+ &amp; –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Static Electr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1143000" y="22860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lectrons in some materials can move from their atoms and collect on other objects.  This will create a negative charge on the new objec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tatic Electricity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ild-up of charges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 an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Electric Fie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1143000" y="2286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s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ion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round a charged object where the object’s electric force pushes or pulls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Electric For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1143000" y="2286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attraction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pulsion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between electric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Charging by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143000" y="2286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2 objec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ub together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electron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transfer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rom one object to the other and create a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Charging by Con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1143000" y="2286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rge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transferred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between objects that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touchin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Charging by In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143000" y="22860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harges are “pushed away”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rom one part of an object because they are repelled by the electric field of another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ubtitle 2"/>
          <p:cNvSpPr/>
          <p:nvPr/>
        </p:nvSpPr>
        <p:spPr>
          <a:xfrm>
            <a:off x="1447920" y="12193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Static Dis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143000" y="22860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a negatively charged object and a positively charged object are brought together, electrons quickly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jump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” to balance the charge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ZA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46:36Z</dcterms:created>
  <dc:creator>Ghost</dc:creator>
  <dc:description/>
  <dc:language>en-US</dc:language>
  <cp:lastModifiedBy>Ghost</cp:lastModifiedBy>
  <dcterms:modified xsi:type="dcterms:W3CDTF">2008-12-10T02:06:53Z</dcterms:modified>
  <cp:revision>5</cp:revision>
  <dc:subject/>
  <dc:title>Slide 1</dc:title>
</cp:coreProperties>
</file>